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explain the following idioms:</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eye to ey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urn a blind eye to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ye for an ey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ll ey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n eye to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 sight for sore ey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p eyes on some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have eyes in the back of one’s h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ke eyes at some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un an eye over something</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8"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function of the ey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ye dis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fontScale="95000"/>
          </a:bodyPr>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is the ability to see the features of objects we look at, such as color, shape, size, details, depth, and contrast. Vision is achieved when the eyes and brain work together to form pictures of the world around us. Vision begins with light rays bouncing off the surface of objects. These reflected light rays enter the eye and are transformed into electrical signals. Millions of signals per second leave the eye via the optic nerve and travel to the visual are of the brain. Brain cells then decode the signals into images, providing us with sight. Human vision is particularly unique in that the human brain can process visual images and use them to create language and pictures and to store information for future use. Light rays reflected from any object we look at enter the eye and are focused by the eye’s optical structures: cornea, iris, pupil and lens..........</a:t>
            </a:r>
            <a:endParaRPr b="0" lang="en-US" sz="2000" spc="-1" strike="noStrike">
              <a:solidFill>
                <a:srgbClr val="000000"/>
              </a:solidFill>
              <a:latin typeface="Arial"/>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n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n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ul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la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acu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ra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sighted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sighted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igmati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bism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uco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in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mechanism of v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arts of the eye play part in focusing light r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inal destination of the light r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retina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cones and rods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binocular v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trabism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glauco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acular degen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people with low vision helped?</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other related forms of these words:</a:t>
            </a:r>
            <a:endParaRPr b="0" lang="en-US" sz="2400" spc="-1" strike="noStrike">
              <a:solidFill>
                <a:srgbClr val="000000"/>
              </a:solidFill>
              <a:latin typeface="Arial"/>
            </a:endParaRPr>
          </a:p>
        </p:txBody>
      </p:sp>
      <p:sp>
        <p:nvSpPr>
          <p:cNvPr id="4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un                      Adjective               Adverb              Ver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 with a phrasal verb from the list below</a:t>
            </a:r>
            <a:r>
              <a:rPr b="0" lang="en-US" sz="1800" spc="-1" strike="noStrike">
                <a:solidFill>
                  <a:srgbClr val="000000"/>
                </a:solidFill>
                <a:latin typeface="Arial"/>
              </a:rPr>
              <a:t>:</a:t>
            </a:r>
            <a:br>
              <a:rPr sz="1800"/>
            </a:br>
            <a:r>
              <a:rPr b="0" lang="en-US" sz="1800" spc="-1" strike="noStrike">
                <a:solidFill>
                  <a:srgbClr val="000000"/>
                </a:solidFill>
                <a:latin typeface="Arial"/>
              </a:rPr>
              <a:t>keep on, pass away, fight off, come through, pass out, take away, throw  up, pull through</a:t>
            </a:r>
            <a:endParaRPr b="0" lang="en-US" sz="1800" spc="-1" strike="noStrike">
              <a:solidFill>
                <a:srgbClr val="000000"/>
              </a:solidFill>
              <a:latin typeface="Arial"/>
            </a:endParaRPr>
          </a:p>
        </p:txBody>
      </p:sp>
      <p:sp>
        <p:nvSpPr>
          <p:cNvPr id="5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hild feels sick. He has.........................his dinner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his operation as cheerful as e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sorry to hear that your uncle...............................last we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young man heard the news, he...................with the sho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wants to.......................Mother.......................the medicine for another mont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 give you a pill to...........................the pai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the disease if you want to feel better.</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as so ill after her operation that the doctors wondered if they would be able to......................her...................</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following sentences into Indirect Speech:</a:t>
            </a:r>
            <a:endParaRPr b="0" lang="en-US" sz="2400" spc="-1" strike="noStrike">
              <a:solidFill>
                <a:srgbClr val="000000"/>
              </a:solidFill>
              <a:latin typeface="Arial"/>
            </a:endParaRPr>
          </a:p>
        </p:txBody>
      </p:sp>
      <p:sp>
        <p:nvSpPr>
          <p:cNvPr id="53" name="PlaceHolder 2"/>
          <p:cNvSpPr>
            <a:spLocks noGrp="1"/>
          </p:cNvSpPr>
          <p:nvPr>
            <p:ph/>
          </p:nvPr>
        </p:nvSpPr>
        <p:spPr>
          <a:xfrm>
            <a:off x="457200" y="2287080"/>
            <a:ext cx="8229600" cy="45262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on’t be able to come to your lectures because he doesn’t feel well.</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said.................................................................................</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down all these formulas so that you won’t forget.</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told u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sister has been doing this report since 5 o’clock.</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said................................................................................................</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ve you done with your research?</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fessor wanted to know.............................................................</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ill see you as soon as she can.</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retary said................................................................................</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arning German because I’m going to Germany next year.</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riend told 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the doctor in his office three days a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ond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very busy today, but if you come tomorrow, they will be able to see you th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istant told 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 was trying to call the nurse when you c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 sa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take your pill yester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 asked her..................................................................................</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20:48:57Z</dcterms:modified>
  <cp:revision>26</cp:revision>
  <dc:subject/>
  <dc:title>Slide 1</dc:title>
</cp:coreProperties>
</file>